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9B1-A573-443F-9613-9C16C2CD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348-EFEB-4E1F-9570-752B5C2F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A64E-0C8D-4B28-960C-37F0A8FB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24F-394F-4A57-9070-8DF20058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7B2-CE95-4F39-AF23-BCBBDC5C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8B34-E27B-4C84-B4C6-6C6B318B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883-877D-4FDE-BD4F-D6A52EF5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2DB-F7AE-48DA-8CAF-48DEA0E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A05-4E61-49B9-AEDD-A78DE4F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BAC-4E06-4897-9E07-C1934DE3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1CA-25C4-4BE6-9FC9-7C0AB4C6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AD5-9D10-4010-8F81-8A450E79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2B0F-54DC-42D4-B7D0-915D670B3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mb@sanger.ac.uk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mod.org/wiki/GBrowse_2.0_HOWTO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nger.ac.uk/genetics/CGP/cosmic" TargetMode="External"/><Relationship Id="rId2" Type="http://schemas.openxmlformats.org/officeDocument/2006/relationships/hyperlink" Target="http://www.sanger.ac.uk/fgb2/gbrowse/cosmic" TargetMode="External"/><Relationship Id="rId3" Type="http://schemas.openxmlformats.org/officeDocument/2006/relationships/hyperlink" Target="http://www.sanger.ac.uk/fgb2/gbrowse/cosmic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nger.ac.uk/fgb2/gbrowse/cosmi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SMIC GBrowse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ising cancer mutations in genomic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9714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ve Be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mb@sang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cer Genom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come Trust Sanger Institute, Hinxton, Cambridge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Zoom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853416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Mutation Detail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458200" cy="2513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4724280"/>
            <a:ext cx="8502840" cy="1960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191120" y="2286000"/>
            <a:ext cx="198108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Break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5991120" cy="396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43200" y="5638680"/>
            <a:ext cx="605808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flipH="1" flipV="1">
            <a:off x="2666880" y="1828800"/>
            <a:ext cx="365760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Mu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6815160" cy="411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352680" y="5181480"/>
            <a:ext cx="5105520" cy="1373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 flipV="1">
            <a:off x="2285640" y="1905120"/>
            <a:ext cx="579132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: G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5029200" cy="4695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124080" y="5867280"/>
            <a:ext cx="5473800" cy="64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flipH="1" flipV="1">
            <a:off x="1904760" y="1752120"/>
            <a:ext cx="5562360" cy="449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py Number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867280"/>
            <a:ext cx="7772400" cy="470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752480" y="3352680"/>
            <a:ext cx="6553440" cy="2368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flipV="1">
            <a:off x="5333760" y="480060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85800" y="1676520"/>
            <a:ext cx="7542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1676520"/>
            <a:ext cx="3886200" cy="164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V="1">
            <a:off x="5334120" y="3352320"/>
            <a:ext cx="152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cosmic gbrowse in some cosmic web pag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lace old and slow draw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nd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 summarised view of whole cosmic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e need to be able to display subse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we display all mutations for a specific sample or group of samples, or from a specific tissue or tumour typ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any for a static list of data sources, but there is a neat trick 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data source in the URL, eg sample 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ttp://www.sanger.ac.uk/fgb2/gbrowse/sample_</a:t>
            </a: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Browse.conf … 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N W3"/>
              </a:rPr>
              <a:t>_x0019_(need atleast 2.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mod.org/wiki/GBrowse_2.0_HOW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Using Pipes in the GBrowse.conf Data Source Name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=~sample_.+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description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Database v48 (sample fil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path       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gbrowse/bin/source_config.pl -sample $1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path points to a script which generates the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ample name ‘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 is passed to the script from regular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track configuration generated for data source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[Mutation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957600"/>
                </a:solidFill>
                <a:latin typeface="Arial"/>
              </a:rPr>
              <a:t>remote feature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ttp://…/cosmic_export.cgi?sample=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COLO-8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cgi script returns COLO-829 mutation data from 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fixes/enhan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fea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cannot be used until Safe::World is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_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l callbacks defined with init_code not accessible from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M/SAM read sorting by similarity to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plots can give &gt;100%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: Cancer Genome Project (C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4: Catalogue Of Somatic Mutations In Cancer  - 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cle database and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genetics/CGP/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s of mutatio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Literature (curat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Other database(s)  eg TP53 (I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Agency for Research on Canc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equencing/mutation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0: COSMIC GBrowse  (22nd September?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nger.ac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k/fgb2/gbrowse/cos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700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committed to using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nternal browser for next gen sequenc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xternal browser for COSM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omic view of mutations, breakpoints and copy numb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 GBrowse to be released soon  - 22/9/2010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P involvement in GBrows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ew developer recru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details still being discu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e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   -  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Simon Forb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ingming Jia, Rebecca Sheph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- Nidhi Bindal, [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Prasad Gunasekar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 IT Group: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Kairan R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Jon Teague, Adam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Support Group: Tim Cu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A team: Tony We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Team: James Smith, Paul Be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O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70000"/>
                </a:solidFill>
                <a:latin typeface="Arial"/>
              </a:rPr>
              <a:t>Gmod-gbrowse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 and C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How could we visualise the data deluge from next generation sequenc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Keiran Raine GMOD presentation in January 201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ar instant solution to the problem (days/weeks, rather than months/years for an in house solu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. COSMIC was designed to be gene centric but what about sequencing whole cancer genomes and visualising mutations in genomic contex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Gbrow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680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5 Virtual Machines [Debian Linux, 2G RAM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 + master + renderfarm slaves (2) +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pache 2.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od_fastcgi 2.4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gbrowse 2.13 [perl 5.10.0 +  bioperl 1.61 + bio::graphics 2.1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bases: ‘Reference’ and ‘Cosmi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cripts to query/format/populate these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ference genome (GRCh37) + cytogenetic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Ensembl annotations (e! 5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smic Transcri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Mutations (subsitutions, insertions/dele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arran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Copy Number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NP6 microarray data over 800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samples which have copy numb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mplification, homozygous deletion, LOH,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css/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l callba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gly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hyper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popups/tool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rfarm 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Render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6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698760" cy="107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69840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812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010280" y="4648320"/>
            <a:ext cx="1676520" cy="12142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752120" y="65530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71500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3526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52480" y="47242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924680" y="5943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698400" cy="107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6720" y="228600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96252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8862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Slav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724280" y="4648320"/>
            <a:ext cx="1774800" cy="1218960"/>
            <a:chOff x="4724280" y="4648320"/>
            <a:chExt cx="1774800" cy="1218960"/>
          </a:xfrm>
        </p:grpSpPr>
        <p:sp>
          <p:nvSpPr>
            <p:cNvPr id="71" name=""/>
            <p:cNvSpPr/>
            <p:nvPr/>
          </p:nvSpPr>
          <p:spPr>
            <a:xfrm>
              <a:off x="4724280" y="4648320"/>
              <a:ext cx="1774800" cy="12189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75200" y="502920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ference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90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Select Tracks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: Overview</a:t>
            </a:r>
            <a:br>
              <a:rPr sz="4400"/>
            </a:b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nger.ac.uk/fgb2/gbrowse/cos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8686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5:19:22Z</dcterms:created>
  <dc:creator>Sanger Institute</dc:creator>
  <dc:description/>
  <dc:language>en-US</dc:language>
  <cp:lastModifiedBy>Sanger Institute</cp:lastModifiedBy>
  <dcterms:modified xsi:type="dcterms:W3CDTF">2010-09-12T20:53:08Z</dcterms:modified>
  <cp:revision>17</cp:revision>
  <dc:subject/>
  <dc:title>Cosmic GBrowse Visualising somatic mutations from the COSMIC database in genomic context</dc:title>
</cp:coreProperties>
</file>